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72E-5126-4DE6-BD05-4EE97278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D3E-457C-4E04-805E-08D78CD0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20F-8540-44C9-91CC-B195F6B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0EB-D3FD-4BD4-860E-235692AB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E2B-6FD0-4268-99AD-38E6DEF6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838-E944-4D98-86B4-7FFB7DE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070-8B19-4CBB-B699-05CA6F1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2FD-0E0C-4A59-9588-021ECF5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10F-EC49-436D-B4DF-F5477F85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E2A-57B3-4D13-B962-988FFEF2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D06-E296-4CEB-8E26-73D2D95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962-C172-4838-A5CD-B60CA31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67E-BDAD-47A5-808A-5E906171B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.wigflip.com/a/n5oWDhu0/signbot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postcardsfrom/" TargetMode="External"/><Relationship Id="rId4" Type="http://schemas.openxmlformats.org/officeDocument/2006/relationships/hyperlink" Target="http://www.postcards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4724280"/>
            <a:ext cx="3124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Ed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693432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86880" y="399888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States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21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Kentucky,Frank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4,041,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 the Union: June 1, 1792 (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17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United we stand, divided we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Blue gras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My old Kentucky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Irouquis: means Meadow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Golden Pl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Kentucky: Map and State Flag"/>
          <p:cNvPicPr/>
          <p:nvPr/>
        </p:nvPicPr>
        <p:blipFill>
          <a:blip r:embed="rId1"/>
          <a:stretch/>
        </p:blipFill>
        <p:spPr>
          <a:xfrm>
            <a:off x="2133720" y="380880"/>
            <a:ext cx="3676680" cy="373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5105520"/>
            <a:ext cx="236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28000" y="5105520"/>
            <a:ext cx="56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4,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arn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bensguide.gpo/3/5stat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All images Copyright © 1997 - 2000 WriteLine. All Rights Reserved. Frankfort KY capitol"/>
          <p:cNvPicPr/>
          <p:nvPr/>
        </p:nvPicPr>
        <p:blipFill>
          <a:blip r:embed="rId1"/>
          <a:stretch/>
        </p:blipFill>
        <p:spPr>
          <a:xfrm>
            <a:off x="304920" y="685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All images Copyright © 1997 - 2000 WriteLine. All Rights Reserved. Horse Racing"/>
          <p:cNvPicPr/>
          <p:nvPr/>
        </p:nvPicPr>
        <p:blipFill>
          <a:blip r:embed="rId2"/>
          <a:stretch/>
        </p:blipFill>
        <p:spPr>
          <a:xfrm>
            <a:off x="5334120" y="3048120"/>
            <a:ext cx="3124080" cy="208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440" y="3657600"/>
            <a:ext cx="41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,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5638680"/>
            <a:ext cx="274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54864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, 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7:22Z</dcterms:created>
  <dc:creator>install</dc:creator>
  <dc:description/>
  <dc:language>en-US</dc:language>
  <cp:lastModifiedBy>install</cp:lastModifiedBy>
  <dcterms:modified xsi:type="dcterms:W3CDTF">2012-04-16T13:05:12Z</dcterms:modified>
  <cp:revision>11</cp:revision>
  <dc:subject/>
  <dc:title>Slide 1</dc:title>
</cp:coreProperties>
</file>